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4926-B4D1-4797-9B0E-DB4D09310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to meet with us: Trouble with classes/teacher/classmate</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0A2E-F242-49B1-8AAF-E2ADB9250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possible topics, some may be optional</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3D88-1548-4BF6-8B6C-03C1125DC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252B7-0DF6-4C4F-B84A-C914EDAA4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CB1ED-7F27-4511-B72A-CDB88173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0A597-7A32-489C-9A7D-376B2A0D1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4812B-5DDC-42B5-A745-CF8610F4B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7F731-4182-4112-BD65-2964558CA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7FAB2-3347-402C-987E-C4D2A3C02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74D0D-9784-4E2C-B008-CDDA0BA2D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C5FD-3462-4EB4-A169-C38C81041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D2ACB-273C-4620-8898-57FF5961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F123-4AAB-4F89-AB8D-C4A6CD48F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06108-878A-4413-AE12-F0F5487E0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BE52-C102-4990-9BF9-45A6C90D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233A5-CCD2-4F76-9188-703E59A8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A5F5A-AC5F-452A-B89B-EAD575FF1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C311B-349B-4E35-9427-D999B24D0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9CB44-CC05-433F-92C6-57D5B83D8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220A6-6C39-46C1-96CB-60A2403AB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38AC8-53D8-4CD9-B716-3EFB88E5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608CD-23B5-455E-9EA7-E3FF4B87B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D40A-7054-420D-A44E-A7FD77A1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A862-1A34-41D4-ABE2-678C6A0F4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7DFE-BE57-4ACF-AC36-32FC2864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8E51-9F9C-42D2-818A-5091683C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7AAD-2E79-4C27-9791-3B7CA55A2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9AB1-46E1-4466-BAC0-4AFDF3F08C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F4FB-6ABC-4738-B193-1D91A2DF8E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um-gifted.wikispaces.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c0039"/>
                </a:solidFill>
                <a:latin typeface="Arial"/>
              </a:rPr>
              <a:t>Welcome Students</a:t>
            </a:r>
            <a:endParaRPr b="0" lang="en-US" sz="54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U.M.H.S.  LEAP Servic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	</a:t>
            </a:r>
            <a:r>
              <a:rPr b="0" lang="en-US" sz="4000" spc="-1" strike="noStrike">
                <a:solidFill>
                  <a:srgbClr val="660066"/>
                </a:solidFill>
                <a:latin typeface="Arial"/>
              </a:rPr>
              <a:t>	</a:t>
            </a:r>
            <a:r>
              <a:rPr b="0" lang="en-US" sz="4000" spc="-1" strike="noStrike">
                <a:solidFill>
                  <a:srgbClr val="660066"/>
                </a:solidFill>
                <a:latin typeface="Arial"/>
              </a:rPr>
              <a:t>	</a:t>
            </a:r>
            <a:r>
              <a:rPr b="0" lang="en-US" sz="4000" spc="-1" strike="noStrike">
                <a:solidFill>
                  <a:srgbClr val="660066"/>
                </a:solidFill>
                <a:latin typeface="Arial"/>
              </a:rPr>
              <a:t>2014—2015</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Session 2</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eminder:</a:t>
            </a:r>
            <a:br>
              <a:rPr sz="3600"/>
            </a:br>
            <a:r>
              <a:rPr b="0" lang="en-US" sz="3600" spc="-1" strike="noStrike">
                <a:solidFill>
                  <a:srgbClr val="8c0039"/>
                </a:solidFill>
                <a:latin typeface="Arial"/>
              </a:rPr>
              <a:t>How to make an appointment?</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a pass:</a:t>
            </a:r>
            <a:endParaRPr b="0" lang="en-US" sz="32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us before or during homeroom </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us</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us at the end of school before 2:40</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iki Site</a:t>
            </a:r>
            <a:endParaRPr b="0" lang="en-US" sz="3600" spc="-1" strike="noStrike">
              <a:solidFill>
                <a:srgbClr val="8c0039"/>
              </a:solidFill>
              <a:latin typeface="Arial"/>
            </a:endParaRPr>
          </a:p>
        </p:txBody>
      </p:sp>
      <p:sp>
        <p:nvSpPr>
          <p:cNvPr id="98"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www.um-gifted.wikispaces.com</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information and articles will be posted</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s-Leave a comment or ques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936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ime Management Tips</a:t>
            </a:r>
            <a:endParaRPr b="0" lang="en-US" sz="3600" spc="-1" strike="noStrike">
              <a:solidFill>
                <a:srgbClr val="8c0039"/>
              </a:solidFill>
              <a:latin typeface="Arial"/>
            </a:endParaRPr>
          </a:p>
        </p:txBody>
      </p:sp>
      <p:sp>
        <p:nvSpPr>
          <p:cNvPr id="100" name="PlaceHolder 2"/>
          <p:cNvSpPr>
            <a:spLocks noGrp="1"/>
          </p:cNvSpPr>
          <p:nvPr>
            <p:ph/>
          </p:nvPr>
        </p:nvSpPr>
        <p:spPr>
          <a:xfrm>
            <a:off x="2285640" y="685440"/>
            <a:ext cx="6705720" cy="5791320"/>
          </a:xfrm>
          <a:prstGeom prst="rect">
            <a:avLst/>
          </a:prstGeom>
          <a:noFill/>
          <a:ln w="0">
            <a:noFill/>
          </a:ln>
        </p:spPr>
        <p:txBody>
          <a:bodyPr anchor="t">
            <a:normAutofit fontScale="98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Set goals for yourself: short and long ter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Record assignments: Use an agenda book or pocket calendar.</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Make a “to do” list daily: Prioritize what you want to accomplish that 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Use spare time wisely: Read on the bus ride when going home, to games or while waiting for practice to begin. Also when given class time to begin your homework, USE I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 It is okay to say “NO” to interruptions: Keep focused on your goals!!! For example, if an employer asks you to work an extra shift it is okay to say no if you are preparing for a quiz or test the next 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6. Find the right time and place: Know how you learn best, what time of the day you concentrate the best as well as choosing an environment that will make you successful.</a:t>
            </a: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7. Get plenty of sleep: Lack of sleep can make you irritable and less productive. Plan your time so that you are in bed at a decent hour</a:t>
            </a:r>
            <a:r>
              <a:rPr b="0" lang="en-US" sz="1800" spc="-1" strike="noStrike">
                <a:solidFill>
                  <a:srgbClr val="000000"/>
                </a:solidFill>
                <a:latin typeface="Cambria"/>
              </a:rPr>
              <a: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99072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High School Study Tips for Students</a:t>
            </a:r>
            <a:br>
              <a:rPr sz="3200"/>
            </a:br>
            <a:endParaRPr b="0" lang="en-US" sz="3200" spc="-1" strike="noStrike">
              <a:solidFill>
                <a:srgbClr val="8c0039"/>
              </a:solidFill>
              <a:latin typeface="Arial"/>
            </a:endParaRPr>
          </a:p>
        </p:txBody>
      </p:sp>
      <p:sp>
        <p:nvSpPr>
          <p:cNvPr id="102" name=""/>
          <p:cNvSpPr txBox="1"/>
          <p:nvPr/>
        </p:nvSpPr>
        <p:spPr>
          <a:xfrm>
            <a:off x="2362320" y="1066320"/>
            <a:ext cx="6400800" cy="449604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tudy Alone</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you've got a couple of friends who are super-serious about getting down to business, stay away from group study sessions because they tend to get off-topic pretty quickly. Save the social time till after you've handed in your tes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reate Your Perfect Study Area</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ce where you study should be quiet, comfortable and free from distractions.  Go to your room, close the door and kill as many distractions as possible - like music, television, and even the internet and your phone.  If you don't have your own room that you can sneak away to, consider studying at the library instea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et it All Out</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tudy materials, that is. Before you dig in, make sure you have all your books, notes, study guides and writing utensils in front of you. Don't give yourself another excuse to get up and rummage around.</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438280" y="151920"/>
            <a:ext cx="6400800" cy="6705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urn Your Notes into Flash Cards</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you've got all your notes in front of you, open up a pack of index cards.  As you read through the important facts, rewrite them in Q&amp;A form on the cards.  For instance:  to study historical facts, write the historical fact on one side of the card and the key details on the other side.  To study geometry formulas, right the name of the formula on one side and the formula itself on the other si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Snack Healthy While You Study</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ant to stay sharp while you study, stay away from junk food.  Instead, snack on studying-friendly foods like dark leafy greens, whole grains, peanut butter, milk and seafood.  Feeling sluggish?  Caffeine or energy drinks won't help you in the long run.  Get your energy boost instead by eating a banana or an app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Narrow it Down</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ry to study every single thing your teacher's ever said, you'll go crazy. Instead, focus on the most important topics. If you're not sure what those are, read the study guide (if there is one), or ask your classmates. Once you've nailed down the important stuff, if there's still time left before the test, you can move onto the finer details.</a:t>
            </a: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438280" y="152280"/>
            <a:ext cx="6400800" cy="6400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Take a Break</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rain can only take so much hard work at one time. For every hour that you study, take about 15 minutes to do something mindless, like taking a walk, listening to music or playing a computer game. (You can even take a 15-minute nap, if you're confident you can wake yourself up at the end of it.) It'll keep your stress level down and give your brain a chance to let all that information sink i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Put Yourself to the Test</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ve got your set of flash cards, test yourself with them.  If you don't trust yourself not to cheat, give the cards to your parents and have them test you.  Don't stop till you've made it through the whole stack without any mistakes.  And be sure to bring your flash cards to school with you on the day of the test:  you'll be amazed at how much more you can retain if you run through the cards right before your teacher hands out the test packe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Get Some Sleep</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ight be tempted to pull an all-nighter, but if you do, you'll only be hurting your chances of getting an A.  Get a full 8 hours of sleep so your brain is in good shape on test day. </a:t>
            </a:r>
            <a:endParaRPr b="0" lang="en-US" sz="1800" spc="-1" strike="noStrike">
              <a:solidFill>
                <a:srgbClr val="000000"/>
              </a:solidFill>
              <a:latin typeface="Arial"/>
            </a:endParaRPr>
          </a:p>
          <a:p>
            <a:pPr>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438280" y="380520"/>
            <a:ext cx="640080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Study All Semester Long</a:t>
            </a:r>
            <a:endParaRPr b="0" lang="en-US" sz="18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tempting to hold off on studying till the last minute, especially if you tell yourself that anything you try to memorize earlier on won't really stay in your brain.  That's not true.  Take some time throughout the semester to review all of your notes and re-read important passages in your text book.  It might seem tedious, but it'll really keep all those facts in your</a:t>
            </a:r>
            <a:r>
              <a:rPr b="0" lang="en-US" sz="3200" spc="-1" strike="noStrike">
                <a:solidFill>
                  <a:srgbClr val="000000"/>
                </a:solidFill>
                <a:latin typeface="Arial"/>
              </a:rPr>
              <a:t> brain on test day.</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hare Your Study Tips</a:t>
            </a:r>
            <a:endParaRPr b="0" lang="en-US" sz="3600" spc="-1" strike="noStrike">
              <a:solidFill>
                <a:srgbClr val="8c003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21:49:47Z</dcterms:created>
  <dc:creator>JHofmann</dc:creator>
  <dc:description/>
  <dc:language>en-US</dc:language>
  <cp:lastModifiedBy>Linda Christensen</cp:lastModifiedBy>
  <dcterms:modified xsi:type="dcterms:W3CDTF">2014-10-29T11:17:26Z</dcterms:modified>
  <cp:revision>17</cp:revision>
  <dc:subject/>
  <dc:title>Slide 1</dc:title>
</cp:coreProperties>
</file>